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47C-B532-40F5-A8E7-E9D0248F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F0B-10AD-4427-B2A8-779BB3E0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6CE-4525-4566-A718-4E8CB7BD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241-C7C7-4CD1-ABC2-3398F856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BBE-005F-4A46-9D58-694CDB64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552-A7F0-4E5F-B157-603F31EA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563-539E-4BB8-8D48-E5091B85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3D4-E3A7-4256-9C86-5833951F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D6B-5AC4-4994-A67E-BF095646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8EC-E599-41AE-AC40-BEC9B817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FE7-F1E9-4C02-98C1-80862CBE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AFF-3B72-4451-B4D4-B9B4F752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F8F6-3EAF-407F-A038-1D2C6F54B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277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ALOGEN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Luis &amp; Da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68360" y="1628640"/>
            <a:ext cx="45720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MENT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ine is a nonme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ine is a non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ine is a non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ne is a nonme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atine is a metall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alogens are very reactive but               fluorine is the most re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ly with group #1 because it has 1 valence electron to g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re Halog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ogens are found in the environment only in compounds or as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ne is used in lamps and in ink pi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ine is used by cleaning drink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INE main uses are in producing flame retard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nteresting fact is that so many things are made and created by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on on the Periodic of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located in group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21:15:49Z</dcterms:created>
  <dc:creator>tatumadmin</dc:creator>
  <dc:description/>
  <dc:language>en-US</dc:language>
  <cp:lastModifiedBy>tatumadmin</cp:lastModifiedBy>
  <dcterms:modified xsi:type="dcterms:W3CDTF">2009-12-04T21:18:46Z</dcterms:modified>
  <cp:revision>3</cp:revision>
  <dc:subject/>
  <dc:title>HALOGENS</dc:title>
</cp:coreProperties>
</file>